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7AB-A1AD-4B0C-9AFE-A8000197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1A5-8541-483A-B3E9-5B69D073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113-B055-4D26-A463-7B98F178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EC2-98C9-45B0-8810-2BC50F4F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B73-13A1-4146-A54A-22D8F258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210-A42B-49CE-8355-E8EE22E8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807-C1D8-48D8-BA4D-C0717B5D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51F-43C3-466B-9A31-0EA8535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79A-5874-4DAD-BE87-55BAA1B6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73C-0AC6-4825-8B6E-EAC82CD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7A0-8E02-4D35-971E-0F59267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E50-8590-4F98-9D40-40B43627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ED3D-3BE3-4673-8F16-63D916D4D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xtended Essay</a:t>
            </a:r>
            <a:br>
              <a:rPr sz="6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May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 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ple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 am still not clear what you mean on pag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You used xxx source quite a bit.  What made it so worthwhile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have been the high and low points of this process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was most interesting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have you learned through this work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Q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?      A 4,000 word, independently don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in-depth study in an IB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does it?   Full diploma candi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End of jr yr/summer/beginnin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sr yr.  Approximately 40 hrs of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Because it’s fun, and, along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theory of knowledge, can earn 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bonus pts towards the dipl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or’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 suitable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ing a precise research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ing and supporting student throughout the research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advice and guidance in the skills of doing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the progress of the extended essay and ensuring it is student’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or’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ising on document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ing an abstract, purpose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commenting on the first draft, but not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ng a grade for the extended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supervisor’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5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ust an EE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body, with sub-hea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ing in a consistent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bstra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the research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s how the research wa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the 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 words or 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Suggestions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duce Better Pap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context and worthiness of RQ in i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RQ is near the end of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aper into subheadings by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uthors’ names in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worthiness of auth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imary and secondary sources, and a variety of types of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nalytical, not just descri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re points l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   no research ques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    no conclu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xceeds 4,000 wo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-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o TOC, no bib, no ref, not #    -2 or -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o abstract, or exceeds 300 wds    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issing a component of abstract   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va vo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short interview between student and teac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check on plagiarism and malpract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opportunity to reflect on the process and on what has been learn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id to the supervisor’s report, especially criterion K, the holistic judg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last 10-15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1:57:03Z</dcterms:created>
  <dc:creator>hipi</dc:creator>
  <dc:description/>
  <dc:language>en-US</dc:language>
  <cp:lastModifiedBy>usd500 kckps</cp:lastModifiedBy>
  <dcterms:modified xsi:type="dcterms:W3CDTF">2010-11-05T02:39:04Z</dcterms:modified>
  <cp:revision>8</cp:revision>
  <dc:subject/>
  <dc:title>Extended Essay</dc:title>
</cp:coreProperties>
</file>